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7BB1-FADB-4A88-BFFF-1EBDDCEAE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taken from: http://www.huffingtonpost.com/2014/08/06/ebola-myths_n_565566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dc.gov/vhf/ebola/outbreaks/2014-west-africa/distribution-map.html#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&amp; video link from: http://www.npr.org/blogs/goatsandsoda/2014/12/04/368513073/idris-elba-plays-a-soccer-coach-out-to-crush-ebola-in-new-ad-campa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Measles_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cdc.gov/measles/cases-outbrea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996-BFC6-4E0A-8E9D-177C1F87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E45-13F3-43D3-9561-F3E5E24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2EE-71D9-43D4-90A0-9BEDE203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55A-AE6B-4AA2-8206-AC3BE0C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06B-47E6-42CB-B0E3-0DF37F9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859-E81C-43B5-BFC4-AFEB355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9A2-CD26-46DE-9410-9CF36AFE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D97-B029-425A-A70F-71B50A1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9D7-7A6E-4E0F-8A1C-5B290C4F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475-B459-483D-BA94-1613329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BAD-35B3-4ACF-BCC7-680340B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6AD-35BF-4B1A-B3AF-F2CB655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AF7F-A804-4254-9418-D28D31206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nnU_o010E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dc.gov/vhf/ebola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bc.ca/player/News/Canada/Toronto/ID/2652577776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ola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Ebola outbreak i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February 10th, 2015, 9177 people have died during this out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African countries most affected are Liberia, Guinea, and Sierra L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43160" y="609480"/>
            <a:ext cx="645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14440" y="609480"/>
            <a:ext cx="6313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C Fou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mpaign including print &amp; billboard ads, radio spots, and videos was launched to educate West Africans about Eb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WnnU_o010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2703600"/>
            <a:ext cx="441936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for Diseas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has a detailed website about Ebola that is regularly upd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vhf/ebo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les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s from CBC Toro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look at information from February 7th on the measles outbre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bc.ca/player/News/Canada/Toronto/ID/2652577776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21:58:33Z</dcterms:created>
  <dc:creator>rubina khan</dc:creator>
  <dc:description/>
  <dc:language>en-US</dc:language>
  <cp:lastModifiedBy>rubina khan</cp:lastModifiedBy>
  <dcterms:modified xsi:type="dcterms:W3CDTF">2015-02-11T04:11:01Z</dcterms:modified>
  <cp:revision>10</cp:revision>
  <dc:subject/>
  <dc:title>PowerPoint Presentation</dc:title>
</cp:coreProperties>
</file>